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7D0-FDA9-4AD5-B96D-12D76687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7DD-758C-4FA6-BA60-28A27D6B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B61-0AF0-4755-A2D9-416EF8F5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F24-40AD-4E41-9BA2-9BE9C6A4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FA3-4EFE-41E9-AE35-C25DDB2F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4FB-14BD-4E9B-8C81-A856A067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3FE-DB51-455D-9A08-9CA281F6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A8E-2DCA-4E78-9E41-A922714B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109-7A36-41D5-85F7-2A3D8C36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09D-D799-4368-BDC3-79A8D21C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6B3-180D-4759-A531-1E5B2B5A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DC4-15EE-494F-A1F6-909FD4F4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8FFA-EA7A-4633-A755-6531F0AB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FF7F-7987-4E16-91C9-A221A5031B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торым важным протоколом межсетевого уровня является протокол управляющих сообщений Интернет —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Control Message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являющийся неотъемлемой частью модуля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оставляет диагностические и управляющие сообщения от одного IP-адреса к другому. Сообщения делятся на типы, определяемые номерами, внутри типов сообщения идентифицируются числовыми кодами или и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9495-8CC2-41A5-BC59-51C80EF8C1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ource Quenc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4) - слишком быстрое прибытие дейтаграмм; отправляется узлом назначения на узел-источник, если первый не успевает обрабатывать поступающие д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estination Unreach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) - узел назначения недоступ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direc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5) - изменить маршрут; отправляется маршрутизатором при необходимости использовать другой марш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Ech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,0) - эхо; используется программой 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ы сообщений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F951-2F3F-41D3-BA3B-B9941512BC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ы транспортного уровня обеспечивают прозрачную доставку данных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nd-to-end delivery service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жду двумя процессами. Процесс внутри хоста идентифицируется номером, который называется номером порта. Таким образом, роль адреса на транспортном уровне выполняет номер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вокупность IP-адреса и номера порта называется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оке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socket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Как IP адрес уникально определяет в Интернет IP-интерфейс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хост)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окет уникально идентифицирует в Сети конкрет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Transport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81B-6B0E-4F55-91DD-CB2D1C601F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D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User Datagram Protocol, протокол пользовательских дейтаграмм) являет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енадежны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отоколо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ез установления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DP получает от прикладного процесса данные для пересылки в виде отдельных несвязанных сообщений, снабжает их минимальным заголовком, в котором указываются номера портов отправителя и получателя и передает пакет на уровень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43BB-6433-4A7E-ADAB-A89ABA6DD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F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Network File System - сетевая файловая систем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F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ivial File Transfer Protocol - простой протокол передачи файл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N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Simple Network Management Protocol - простой протокол управления сетью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omain Name Service - доменная служба им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кладные процессы на основе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0BD0-7645-423A-8540-182BCBEFF3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ansmission Control Protocol - протокол контроля передачи)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адежный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байт-ориентированный (byte-stream) протокол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 установлением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 TCP осуществляет передачу данных, получаемых от прикладного процесса. Поток данных разбивается модулем TCP на сегменты. Передача сегментов осуществляется между сокетами с предварительным выполнением диалоговой процедуры установления соединения и с контролем успешной доставки сегментов в процессе пере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D593-98D2-495B-B7D1-AC6EB7CA26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становка TCP-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312-8F0D-4608-ABD9-100C12D0E7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 скользящего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1166760"/>
            <a:ext cx="8388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8F3-C8EA-4971-B8D1-5C343BEC54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ждому узлу Интернет (точнее, каждому IP-интерфейсу) присваивается уникальный 32-битный адрес, состоящий из адреса сети, в которой находится компьютер, и номера компьютера в этой сети. Сетевая маска (32 бита) позволяет отделить адрес сети от номера компьютера. В каждой сети определяется широковещательный адрес ("всем узлам этой сет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-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9097-1DC6-4DFB-9975-125A8F8109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32-битный идентификатор IP-интерфейса, состоящий из адреса сети и номера хоста. Местоположение границы между двумя частями адреса может быть различным в разных адресах и определяется разными способами в классовой и бесклассовой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Стек протоколов TCP/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E263-C0E9-4106-B0E2-320AABBC63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пример,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010100010000010110000011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запис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.01010001.00000101.1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60.81.5.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D44A-FA20-4558-B972-B488646CD0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особ построения адреса, когда граница между адресом сети и номером хоста в IP-адресе проходит по границе октета (между битами 7 и 8, или 15 и 16, или 23 и 24), при этом местоположение этой границы определяется значением страшего окт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Бес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CIDR) - способ построения адреса, граница между адресом сети и номером хоста в IP-адресе проходит в произвольном месте. Местоположение границы определяется сетевой маской, которая в этом случае прилагается к IP-адр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. Классовая и бесклассовая 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9E82-E19E-417C-A47B-1E0F222E11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лассы IP-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1640" y="9698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71640" y="3998880"/>
            <a:ext cx="5292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A9FB-2905-4366-B81B-29B6EBD7D3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удобства записи IP-адрес в модели CIDR часто представляется в виде a.b.c.d / n, где a.b.c.d — IP адрес, n — количество бит в сетев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мер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137.158.128.0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для этого адреса: 17 единиц (сетевая часть), за ними 15 нулей (хостовая часть), что в октетном представлени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11111111.11111111.10000000.00000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255.255.128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пись адресов в бесклассов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7FD6-81DF-4C0C-ABB9-AE8311E5ED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  netmask = 255.255.255.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ahoma"/>
              </a:rPr>
              <a:t>в двоич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 </a:t>
            </a: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= 11001101 00100101 11000111 100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   = 11111111 11111111 11111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network = 11001101 00100101 11000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олотов С. Протоколы Internet: Руководство для профессионалов. – СПб.: BHV-СПб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4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1) Уровни стека TCP/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2) Протокол I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3) Протокол U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4) Протокол 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5) IP-адрес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6) Классовая</a:t>
            </a: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и бесклассов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93AA-0463-4221-B1C8-741A60E355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- набор средств низкого уровня, которые обеспечивают передачу данных между компьютерами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исы Интернет и прикладные программы, которые изучаются в настоящем курсе, пользуются TCP/IP для взаимодействия между собой - аналогично как люди пользуются телефонной се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E726-7ED9-4BE5-AB5E-02F919F72B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устроен в виде многоуровневой системы, где каждый уровень выполняет свою функцию по обеспечению передачи данных между компьютерами. Детали работы каждого уровня скрыты от других уровней; каждый уровень взаимодействует только со своими соседними уровнями сверху и с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Уровни стека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89EF-3E00-4241-8D69-C3CF8D49E5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крытые стандарты протоколов, разрабатываемые независимо от программного и аппарат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езависимость от физической среды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истема адресации, позволяющая уникально идентифицировать каждый компьютер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тандартизованные протоколы прикладного уровня, реализующие сервисы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обенности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F7BF-5093-4ACC-A8E7-C3F7432A59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944640"/>
            <a:ext cx="66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D86-3CCB-4E23-BD2D-2A5D34024D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ображение IP-адресов в физические адреса сети (MAC-адре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капсуляция IP-дейтаграмм (datagrams) в кадры (frames) для передачи по физическому каналу и передача ка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 этом уровне работает протокол ARP, осуществляющий отображение адр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-&gt;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717-673B-4A26-A340-99624169C8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дейтаграммы - основного блока передачи данных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схемы адресации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ередвижение данных между транспортным уровнем и уровнем доступа к среде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маршрутизация дейта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фрагментация дейтаграмм на границе сред с различными размерами блока передаваемых данных и сборка фрагментированных дейтаграмм в месте на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Функции протокола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в Interne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12:19Z</dcterms:modified>
  <cp:revision>178</cp:revision>
  <dc:subject/>
  <dc:title>Lecture Template </dc:title>
</cp:coreProperties>
</file>